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0E3D-8845-4318-84C7-98A221EF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19D0-3F23-45B0-9DD8-95F7502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A72D-283D-4877-9D83-3887F027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C76A-6CB2-40BD-BAC8-8041BEB1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5A95-0123-46E3-AF31-4829BC74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C519-9B4D-43CA-A66C-598888C7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D63-1A71-496E-BDEE-7222221A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57F3-113B-4208-9CBB-40156A6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0E36-6ED1-40EA-9292-29119AD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280-AE7D-456F-9B23-60F34668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471C-85B1-4135-A077-79CB033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B68C-D8EE-4D57-BF0C-E70025F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F21-A004-408A-8637-F734F78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714-B151-46B7-B306-0B5FEB8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21B0-7440-45DC-A158-EE744DEB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DEEE-8C85-43B3-BE64-4B3BF32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58C-FA47-4F8C-A456-66FA2419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E079-01AD-44EB-8C22-F431569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1CA9-F024-48F6-9128-0F4CA3B5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F631-A4E4-49FA-8A4F-C970E26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EB08-11F1-4119-B279-7D8622A7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885C-8612-4014-8550-ECBEF60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CE86-005F-4C39-A7B3-88D54A8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40D9-CD13-4DE0-8A51-4DEE91C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B0A-C1DC-48F3-B51B-B3B4B0479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E10-E710-416D-B656-1FC9E88A7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Les Etoiles Filantes</a:t>
            </a:r>
            <a:br>
              <a:rPr sz="54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Les Cowboys Fringant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no Vanden 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830160" y="1600200"/>
            <a:ext cx="3291120" cy="21906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1606320" cy="2190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2679840" y="4448160"/>
            <a:ext cx="40892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l faut que vous ecoutiez a les mots pour le sens de la chanson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 croyes-vous est le sens de le chanson?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165320" y="1981080"/>
            <a:ext cx="68119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0.33294 L 3.33333E-006 3.64162E-006 E">
                                      <p:cBhvr>
                                        <p:cTn id="14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Je pense qu'il est au sujet d'un homme qui a perdrions la femme qu'il aime une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165320" y="2209680"/>
            <a:ext cx="681192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mble-t-il que les Cowboys Fringants a tres, tres bizarr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165320" y="1600200"/>
            <a:ext cx="6811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ui c’est un garcon avec une brasero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165320" y="1600200"/>
            <a:ext cx="681192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 il n’usage pas une soutien-gorge, le femme s’adorais. Mais une jupe n’est pas meilleur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043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 vous ecoutera le music de les Cowboys Fringants, vous sera tres joyeuses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l est essential que vous ecoutiez autre chansons de les cowboys Fringants, je pense que vous les voudrai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66688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3:51:43Z</dcterms:created>
  <dc:creator>Preferred Customer</dc:creator>
  <dc:description/>
  <dc:language>en-US</dc:language>
  <cp:lastModifiedBy>Preferred Customer</cp:lastModifiedBy>
  <dcterms:modified xsi:type="dcterms:W3CDTF">2007-01-09T01:59:21Z</dcterms:modified>
  <cp:revision>1</cp:revision>
  <dc:subject/>
  <dc:title>Les Etoiles Filantes Les Cowboys Fringants</dc:title>
</cp:coreProperties>
</file>